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dt" idx="6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FAE86241-3698-4F79-AE12-460AF61654EA}" type="datetime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26/0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ftr" idx="6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 type="sldNum" idx="6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6157A991-6567-458C-A321-E355027CCB55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3D32-B877-4163-835E-5F086A4E9F91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F106-B4F2-4B9F-960C-512DFF279EA0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21E3-9ACB-4663-A506-5874FFD66269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D7A5-56F6-464A-BCB8-8D4BBA189DDC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B2E4-640D-4B22-AEA3-AF711B81A228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DE91-4148-4378-92C4-4BB0AB075D66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BDCA-02C2-472C-9A0F-9BA77E348493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D9C6-F4F3-4CD8-9BB4-D868751E799A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91AB-A938-4FC0-AC10-6AA34B69E0E4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1A7C-B17B-4BFD-B628-6E864A084500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562E-4AA9-474E-B533-2E556141B0E0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E053-A061-4B27-BF64-9964F126CF6D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C270AA22-635C-4865-8B9E-3300C383D84B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3AAAA0B7-E381-4565-83EA-9772306870AB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621C-F58F-4002-8301-96515564BC32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6978-C85E-4F64-9F2A-CDFBB93DA809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E192-6AF2-4883-AA5A-E2A14A060B1A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5971-9985-48C3-B3FA-F5B1D2CBFB24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E73B-5F9C-4DF1-B9FC-F19041DF91D3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8C61-4084-4ADD-97B0-AAC92158C3F9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1301-8BF4-40BB-BFA3-B413B766E364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3CB-1E2B-411F-B912-447C34F7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FD3-5394-4ACC-884C-C3C3D949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6C902-D25A-434F-8552-421C0217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83583-8291-4C56-8CBB-7085AA1D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F7BAF-3BF6-415E-AE03-CB86AB7D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0B873-79F3-418E-8953-DCBB81F5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E84C1-162D-49CC-90D5-F85334C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56ED1-036D-43AA-A83C-B54EDB6D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3A514-50B2-46E3-9F4F-F1087931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DBA3E-4956-429F-B46D-2A33CE4A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2F004-7FA8-4034-9DCC-A3800700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E39ED-D284-454C-965A-BE04A9B3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379-62CA-49DF-9BE0-A2C4E7F8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38ACE-A422-488B-BA2F-65D1AF9F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3C318-3144-4DF4-BC2D-8F8D00BC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C8236-FC81-47C9-8B59-675AFE4C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D7E73-81E4-4882-942B-345537DC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F3CDD-D4D0-4606-8BB4-DFF9D7A3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9F71D-CB4D-4298-B6BD-A1DA3DD6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D5DC6-A074-4809-AB2F-F3D827EC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7AFA2-5B7F-4CA0-A4FC-64C2B7C8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80EFF-FA8E-47A0-97CE-D198DFDC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60D19-3CE2-4CA5-B3CE-6246E3E5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75A-1A47-48CF-88D2-2733D7B0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2DA13-61BC-4970-82AA-35C455DC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C562C-34B3-44EA-98BA-9BCEC03B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B5A60-5DF4-4CB9-BB16-C8A63A51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69CB1-3BA3-4EFE-B589-4C8CAA19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B6279-324A-4ACC-9D64-6BAAEE43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240E8-7463-4A49-9360-9167DB35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EA780-6C69-435E-9A6E-3F9DBE2F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DF2D4-1766-4127-9DCB-8D80D62C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6EE4B-CB7B-4B82-AABF-E69AF7FD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E76E0-D90A-41C4-90E6-CA18F71D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5E8A-071C-4300-A56E-DF436B6A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0317B-A4A1-453A-8C26-337198A1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255B2-7ACA-4DEF-BFF0-A1CB4380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970F7-72CC-4008-ADBC-7F61DD53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BED1E-1004-4614-A244-3F4D1738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3CB49-0D00-46D4-88B8-DA8361E9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E6BF8-6FE5-4F68-BAFE-B0F2E0C7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29695-4F62-4982-9CB1-321B3DCE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7168F-D7F6-406C-949D-36DEC6C2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E0ABA-2AA7-4D6E-A4A4-63E896EC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618A9-F6A6-4031-894E-304830BB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CCC3-A264-4ADD-980F-6948C1A8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3A013-D4BF-4138-966A-07085356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A9309-35E4-4336-8198-678154D5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5F646-40F0-4F6D-9602-8DD75C8B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14E8F-8C18-4114-AF41-E684EAD8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8D9F6-CBA4-4C46-A9DD-6BCA93F9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40533-979D-4FD9-B162-6116772A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23ACC-CAB3-42F6-9920-044101B5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A76CD-4881-43BB-B3B0-B6ED523C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4FF61-D913-4F58-8BED-14B124E1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9629D-AB64-47C5-AA54-7E4A1FE7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D958-3A01-4BB7-929B-8685AD11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AFE7B-996A-4696-A439-895E7EFD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42A37-2E30-4964-B993-F4D48A2F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49FA9-FB1C-4C4D-98CC-D6DEC8F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0247E-B277-4406-96A2-966286D3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56B17-EFDB-4FB2-AAF7-E9C7EB0C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736DC-CAF0-4BC0-BF40-20C2B675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73488-83F3-47A4-9CCB-C867C8BD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4BA1B-CFDE-4B31-88BD-877B8300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2826E-BD02-45CB-80F7-33C93B3E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A84DC-6B55-4B46-A256-2AD0F1B2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FFF7-44A4-4EAC-8A44-E8252FF2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ADB99-EB8F-47D5-8C00-CE562C07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920BA-CC07-490E-A566-7D4F5383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6BEB2-C84C-4D24-8234-514B237F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1B726-4001-4F42-9CD7-ED614BE1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58F7B-7CA2-4DE2-929B-1E92154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863BE-26CA-49EF-A478-14ED302C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4F5CD-452F-437A-A69C-09A2F638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CDD4F-51E5-4263-9A0B-C08A930A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BA411-08F7-4EB6-A30B-060314F0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A14E1-2FC6-469E-B522-067D6845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1AF2-8EEB-425F-90CC-DB7A3A23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FA5C4-2815-4F44-A956-B31793DC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6028F4-21A2-4698-ACC4-428A7373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8B39ED-9FD5-45E2-BBDA-78BC1FCE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BE36F-70E8-422E-9B5A-8030B0C1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E8A61-A45F-490D-9F91-336A1853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14B71-D461-4FD2-8DD6-A78E5DEA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E84EAE-E848-4CCC-9B98-A0FC929E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8FF82-5B30-47F0-98E4-E77066F1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D3A52-4792-4224-878A-E294E122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E407C-9C3D-41B8-A177-21E9F4C7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7089-22AE-4A7C-995E-07C9394F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2FC34-7462-4FEE-B327-6C9BC5C4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C87A3-3C0A-4CEA-92F8-E0013129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36782-1930-4829-ABA6-944BD1D6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CDD42-A314-4F29-BB31-B6E62F92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8E60E-7C42-4852-A82C-3848EB57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CB522-35DA-4CB7-AA75-1858A349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79FAF-A67C-419C-B820-91D060A7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A4289-324F-41F7-A46D-B38FEB6C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91258-54EC-4261-BD3B-68A89CAC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5DD6A-427B-4E11-B9E7-1986526E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8783-A78D-477B-B7F9-4D31C2EC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7FE0C-B199-45AD-BD73-7F58FC7B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61659-3EB4-4A5D-A392-EF53EE49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A7111-9427-4351-85C9-9F2B715B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639A2-998E-4726-BE61-169EBC79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23E73-73A7-4091-8E22-B9920762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541A5-F953-4998-92DC-E6B73FAB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06E51E-36FE-4DA4-9E8D-A447965C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399A5-43C7-44F9-90C7-1CF1BF48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89061-4EC7-4F8F-B339-2F3E4852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9623F5-179C-4D70-9057-CB779615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D01-1DEF-463D-AA6F-B9BCD285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121C-EEC5-40C8-ABE7-AE77CC65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12FB4-4A14-4F8C-B708-3F583C97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11883-02F6-4C51-940C-7F41DE1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8D921-C59C-4421-A2DF-3123D5D1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F518B-C13F-49E4-A978-C9EA402B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6733C-0CCE-4805-BCCA-84808B1A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B3223-5D9D-49EF-955F-F4ABF9A9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C29DB5-2B80-4514-AD44-C9A3139F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90BF8-9908-44A7-A0D6-1B89E152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01A0A-8198-4E0D-97C1-B1F92E2C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7EDD9F-7D33-4521-BD4F-D2974F4D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74B7-1141-44CD-BC6E-1896BFFF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3D5DB0-371C-4199-8457-A7486DEE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4F165-2550-4D2C-867D-DD80806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6C276-053B-4185-99B9-00D3A9DB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1E2A8B-1846-4E00-876E-EF12D98A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2DB7E8-5BE8-479D-B639-AAD82DB2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F161FF-DAB1-4648-B205-E186B06C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87A80-1316-46A3-BAD3-B1D390A2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EF8463-753C-4CB1-ABC1-B3EDBE51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9D6117-CF9D-4DEE-87DA-F336E6B5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A28F9C-6ABC-47C9-BF72-ABFC3572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1470-4FD2-461E-8C6A-97A8D0D2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B54F6-44F8-4440-BAA1-29E4853C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C75D8D-42DB-4C35-B919-1C3A0037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2370C4-043A-467A-A3EF-8CE6470B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BC6F6A-2C4F-419E-AE92-3CBE9127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67E433-D792-40FF-9FA0-1D38B982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586E6-805C-4544-AC08-4B5A0D15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6E024-3EC9-406A-A58D-76B72630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532DDB-9400-48F2-A00C-C81D8A1E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FE193-60A7-4DED-AF8A-AB150825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77B025-C295-48E1-A156-86553290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575A-70FA-4CFE-950C-D45CF075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85DB0F-93FF-4550-A4B6-EA936833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A8EFA-9C64-48A9-87E2-B0F2D881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C84E8E-8EF6-4D4C-932E-DC24520D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982719-EBF4-4CEF-80A9-66BB9A56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16D4AF-E7DA-4066-AFF9-CAA0FACC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EFBA6-F5D5-4101-8997-1BE93FD4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B360BF-68B9-4253-B2A1-286C1311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FD14AC-0EAC-4BBC-9F3F-1E6E7A77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EFA9FB-F248-4A2F-AC2D-95A82740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6FC3E2-DA92-4A01-AEAD-B67B5A28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DCB7-9AA2-4024-812B-7D988A66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2D3946-EC7F-4881-A1D4-1310DF6E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C1056-7D6A-4E71-9B27-CF3DD692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D604-7E2D-45C5-8291-22939C68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65BA-7FC4-443A-91D3-79555BC0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37ED2-65D2-42DF-B8B2-BE7ACBD3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A2BB-7136-4F76-A302-8C6DF1C5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BAD-FC92-45C5-8AF5-DA22C6AC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762F-8BEE-4E37-A397-50F1397B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C417-C30A-4C5B-B2B7-EA675FA1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F79D-909F-43A6-97BD-CB761511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D515-2618-4D00-AA55-46C7B0AF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B5DF-F45A-455D-8C43-EEA16F0C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BDF2-30FA-4A60-8CBC-8121D95D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4886-2493-4F8B-ADBF-96E51269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3BA1D-8814-42BC-9273-EAC7EA60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B8A60-4A5B-4AA2-825D-392E34C7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0E9FC-4C03-4AC6-9FCA-A14F4DF3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804-078D-44FD-9D9C-7DA2E70C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BDBA-017E-4853-B6F5-4B889FB9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E2CD9-93B5-4B3E-82C2-2AF062AE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81FAE-D7D6-40BC-8DC3-9BC915B8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CB8A-AB30-426D-B573-70959660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37601-F8ED-4482-8B6F-EA44A9D6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DF98D-62D1-4751-A1C9-CEF2D83F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5A9A6-6286-41BF-AA67-4FC33E2F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0D67-D837-4171-935A-FB9CCDA5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6124-9DA7-467C-A83E-7B8D07E7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EC91-F452-44D4-B5C8-981923F8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09A-054A-4E56-AAF3-37C7A05A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24364-6A70-45B9-AE43-6A5DA69B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73119-DA7F-4CA8-B061-649951AC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09E07-4B10-4F3F-A47F-827B7F4D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C4259-847E-46B8-95D7-AC625E65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19676-EC69-42BD-B86F-8DFA1EFA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F776E-E4C1-4E12-961B-D77B8CB5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BD3A3-909F-4823-980B-D699568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F4162-268C-42D6-B6AE-07FE557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ABEAD-CA9E-444B-8A11-C7E6A21B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48DE-B447-47D4-867D-1A23685A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35F-6E3A-419D-BFB9-BF4E0B96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81FE-15E8-4BB9-8EFC-0E62A368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0A0AB-28C3-4DE0-9D22-43E691C1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EF0A6-ECAC-45A4-A5EA-56F087D9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8123B-4219-49E8-953B-ABFBB5C8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059C1-B192-4F87-805E-8DEC351A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98726-CFB7-4DBB-9ACC-D88A60F7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16E8A-31EE-4244-92E3-D49A5547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81B27-5F17-4BA7-A35E-DCC4D78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53674-E2AA-4E8E-B1D0-26363DA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0E7B8-99FF-4F9A-930F-9E8BFF43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CBF-CE0A-40AA-BCDC-5565EFC1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8CED3-3949-4ACA-B3FB-B16237E5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9883-96AF-4A27-95CC-CE123159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50A41-191E-4546-BC61-DEFF027B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7ED9A-B666-44FB-8F5A-69AD3DE0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35860-02C7-46AC-B3D8-EBF88A23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17B37-A0F8-49F7-AC0E-25B91712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3FA79-8313-4D7E-B5ED-5F04AB21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B3BE7-9F79-4832-B05A-532E1A4C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31A4A-E646-45B8-A4CA-B6410446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FBB12-EE9E-42E7-AB2C-BC7DBD16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A60-1A96-4DB4-BA20-F54E1076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13D9-9668-4575-98B5-DAEF85A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E1DB-35C6-4AFD-B568-509B02C9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098D7-7FB5-4F15-8520-28D98142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C2485-C3E4-451C-A0F1-80B43AFB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E240-B1AE-412F-86A4-B6D918B9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40C8C-E752-45C3-BFCD-992B11E9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5C192-33DF-47F7-ADD9-06D94508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D9105-D432-4169-933D-F29F4C1D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C36C8-92F7-4CC6-B3A7-5CA61528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8D939-44AC-4D6D-B843-F35156FB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F43-D741-4F24-942D-2206E71A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1C8AA-2525-4CBA-A991-DBAAF418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FBEAB-48F8-4137-A67C-9A21E145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6A7C8-F277-48D8-8609-389575BD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FF84A-DD54-484B-9499-3CB9194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08203-DA82-4B4D-A8CE-1EC73400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43EEA-8354-4205-A076-1B6EC99D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71CF7-C917-4BB4-A365-5832AF15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F2EFC-59FD-4DDB-8447-ABD19F8D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B671D-F338-4BBB-80B3-6D3F857D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AE2E2-5BA9-4FE5-9873-D905A442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6CF3-7EC9-4280-B02E-480EEEA73E65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749A-4FD3-427A-89B2-083966B5CFC3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B7DD-BD4A-4E4B-BA97-410ED5522344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DE48-CDEB-4B3D-930D-F791FFFC7F5F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F5B6-D96D-4366-98EB-F91573C5FC3C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CA73-64A1-45A8-9156-D890494CF475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6297-4BEE-4D39-952D-B78A3BF2B048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15B5-4B6E-48AC-A744-2B3B6426AEE2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586C-D82A-443F-9491-86AC6A772E5F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1681-B68D-479A-B0B7-2B8ECD15EB6E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D3B9-1EA1-4E1D-9208-AF064C701437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C406-8180-44A6-A6E4-C9DED34EBEF2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1161-88D2-473D-8494-53D6372EB23B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BF35-9473-4FAF-B9C6-6F1DF0368D0A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539C-1713-4896-8321-C85B96A2A025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7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8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2473-2E53-4C97-ADC5-90D6E5D23E5E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79E3-32C8-431A-B66E-C943009E1A49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5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5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4FA4-D68D-4CE0-B888-66CFC8E759EE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52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E2E4-3173-4486-AC3E-613A5D909815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3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571A-AD3D-4B03-A8F8-530A023FC00E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D232-1904-4559-91F3-90220AAEFAFA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81E8-7FA3-4227-AC21-8D29746F18FC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21D6-9E15-4E0F-8A55-0C38F962DC7E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3D31-8EF6-4267-B6A0-B69061812774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58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EFF5-1A0C-4514-8B5E-A1AED0025807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59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60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7FE2-FDEB-44EC-B2AF-918554488210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D4ED-B049-45A5-A6D9-C5CD616BB593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2606-0E23-40DD-A32A-D7D4ECADCABD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6741-AE46-4B19-A45B-55DA132ECFEE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1B2F-A130-4C03-9CD9-86EDE25F31CE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CC06-F071-43C2-A5A3-4EDBB57DDAE2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D64C-45AA-4BB4-B80B-36C725579469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4DEC-07C5-45F4-881F-5A238850C177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B7EA-6BE6-4342-82DC-6DB137C47DC5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E787-B39B-43AC-9DEF-9C49B56FE3D8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8144-C1B0-4F1D-9699-9F8456C14F03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39D-1E22-46C8-8AD5-A71E24F843AC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4DCA-7153-432B-84EC-76BB98E35E69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44C3-0587-4CA3-AE5B-C48D16A40B77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E550-8837-4818-9C6A-374A457AD307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スライド番号プレースホルダー 3"/>
          <p:cNvSpPr/>
          <p:nvPr/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17C2-841C-455F-BE91-11954AB5A2A4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1341000"/>
            <a:ext cx="7315200" cy="18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2060"/>
                </a:solidFill>
                <a:latin typeface="MS UI Gothic"/>
                <a:ea typeface="MS UI Gothic"/>
              </a:rPr>
              <a:t>オープンデータの取り組み</a:t>
            </a:r>
            <a:br>
              <a:rPr sz="4800"/>
            </a:br>
            <a:r>
              <a:rPr b="0" lang="ja-JP" sz="4800" spc="-1" strike="noStrike">
                <a:solidFill>
                  <a:srgbClr val="002060"/>
                </a:solidFill>
                <a:latin typeface="MS UI Gothic"/>
                <a:ea typeface="MS UI Gothic"/>
              </a:rPr>
              <a:t>について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7315200" cy="18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令和２年１月７日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流山市　総合政策部　情報政策・改革改善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課長補佐　佐藤　慎一郎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FD23-29B3-4163-A2A3-53259AA564CA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適したデータ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2" name="テキスト ボックス 6"/>
          <p:cNvSpPr/>
          <p:nvPr/>
        </p:nvSpPr>
        <p:spPr>
          <a:xfrm>
            <a:off x="250920" y="126828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オープンデータでは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テキスト ボックス 7"/>
          <p:cNvSpPr/>
          <p:nvPr/>
        </p:nvSpPr>
        <p:spPr>
          <a:xfrm>
            <a:off x="395280" y="1773360"/>
            <a:ext cx="1584360" cy="576000"/>
          </a:xfrm>
          <a:prstGeom prst="roundRect">
            <a:avLst>
              <a:gd name="adj" fmla="val 16667"/>
            </a:avLst>
          </a:prstGeom>
          <a:solidFill>
            <a:srgbClr val="4ec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価値あるデータ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テキスト ボックス 8"/>
          <p:cNvSpPr/>
          <p:nvPr/>
        </p:nvSpPr>
        <p:spPr>
          <a:xfrm>
            <a:off x="2627280" y="177336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0d5d7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ＭＳ Ｐゴシック"/>
              </a:rPr>
              <a:t>使いやすいデー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正方形/長方形 9"/>
          <p:cNvSpPr/>
          <p:nvPr/>
        </p:nvSpPr>
        <p:spPr>
          <a:xfrm>
            <a:off x="2050920" y="184464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e5d7b"/>
                </a:solidFill>
                <a:latin typeface="ＭＳ Ｐゴシック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右矢印 10"/>
          <p:cNvSpPr/>
          <p:nvPr/>
        </p:nvSpPr>
        <p:spPr>
          <a:xfrm>
            <a:off x="5219640" y="1916280"/>
            <a:ext cx="28908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e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887" name="テキスト ボックス 11"/>
          <p:cNvGrpSpPr/>
          <p:nvPr/>
        </p:nvGrpSpPr>
        <p:grpSpPr>
          <a:xfrm>
            <a:off x="5705640" y="1542960"/>
            <a:ext cx="2914560" cy="1108080"/>
            <a:chOff x="5705640" y="1542960"/>
            <a:chExt cx="2914560" cy="1108080"/>
          </a:xfrm>
        </p:grpSpPr>
        <p:pic>
          <p:nvPicPr>
            <p:cNvPr id="888" name="テキスト ボックス 11" descr=""/>
            <p:cNvPicPr/>
            <p:nvPr/>
          </p:nvPicPr>
          <p:blipFill>
            <a:blip r:embed="rId1"/>
            <a:stretch/>
          </p:blipFill>
          <p:spPr>
            <a:xfrm>
              <a:off x="5705640" y="1542960"/>
              <a:ext cx="2914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Rectangle 183"/>
            <p:cNvSpPr/>
            <p:nvPr/>
          </p:nvSpPr>
          <p:spPr>
            <a:xfrm>
              <a:off x="5776920" y="1609560"/>
              <a:ext cx="277488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ＭＳ Ｐゴシック"/>
                </a:rPr>
                <a:t>コンピュータで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ＭＳ Ｐゴシック"/>
                </a:rPr>
                <a:t>扱いやすいこと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890" name="正方形/長方形 12"/>
          <p:cNvGrpSpPr/>
          <p:nvPr/>
        </p:nvGrpSpPr>
        <p:grpSpPr>
          <a:xfrm>
            <a:off x="669960" y="4280040"/>
            <a:ext cx="8096040" cy="1395360"/>
            <a:chOff x="669960" y="4280040"/>
            <a:chExt cx="8096040" cy="1395360"/>
          </a:xfrm>
        </p:grpSpPr>
        <p:pic>
          <p:nvPicPr>
            <p:cNvPr id="891" name="正方形/長方形 12" descr=""/>
            <p:cNvPicPr/>
            <p:nvPr/>
          </p:nvPicPr>
          <p:blipFill>
            <a:blip r:embed="rId2"/>
            <a:stretch/>
          </p:blipFill>
          <p:spPr>
            <a:xfrm>
              <a:off x="669960" y="4280040"/>
              <a:ext cx="80960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Rectangle 186"/>
            <p:cNvSpPr/>
            <p:nvPr/>
          </p:nvSpPr>
          <p:spPr>
            <a:xfrm>
              <a:off x="684360" y="4292640"/>
              <a:ext cx="8064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262080" indent="-262080">
                <a:lnSpc>
                  <a:spcPct val="100000"/>
                </a:lnSpc>
                <a:spcBef>
                  <a:spcPts val="601"/>
                </a:spcBef>
                <a:buClr>
                  <a:srgbClr val="0e5d7b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コンピュータが読み取りやすい形であることを「機械判読に適している」という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262080" indent="-262080">
                <a:lnSpc>
                  <a:spcPct val="100000"/>
                </a:lnSpc>
                <a:spcBef>
                  <a:spcPts val="601"/>
                </a:spcBef>
                <a:buClr>
                  <a:srgbClr val="0e5d7b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データの構造（例えばタイトルや図表等）をコンピュータが判別しやすく、構造の中の値（例えば数値やテキスト等）が処理しやすい形式になっていることを表す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893" name="グループ化 13"/>
          <p:cNvGrpSpPr/>
          <p:nvPr/>
        </p:nvGrpSpPr>
        <p:grpSpPr>
          <a:xfrm>
            <a:off x="2556000" y="3716280"/>
            <a:ext cx="3960720" cy="73080"/>
            <a:chOff x="2556000" y="3716280"/>
            <a:chExt cx="3960720" cy="73080"/>
          </a:xfrm>
        </p:grpSpPr>
        <p:sp>
          <p:nvSpPr>
            <p:cNvPr id="894" name="直線コネクタ 14"/>
            <p:cNvSpPr/>
            <p:nvPr/>
          </p:nvSpPr>
          <p:spPr>
            <a:xfrm>
              <a:off x="2556000" y="3716280"/>
              <a:ext cx="396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95" name="直線コネクタ 15"/>
            <p:cNvSpPr/>
            <p:nvPr/>
          </p:nvSpPr>
          <p:spPr>
            <a:xfrm>
              <a:off x="2556000" y="3789360"/>
              <a:ext cx="396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896" name="下矢印 35"/>
          <p:cNvSpPr/>
          <p:nvPr/>
        </p:nvSpPr>
        <p:spPr>
          <a:xfrm>
            <a:off x="4356000" y="3933720"/>
            <a:ext cx="432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d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正方形/長方形 17"/>
          <p:cNvSpPr/>
          <p:nvPr/>
        </p:nvSpPr>
        <p:spPr>
          <a:xfrm>
            <a:off x="755640" y="3284640"/>
            <a:ext cx="828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オープンデータは、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コンピュータが読み取りやすい形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が望ましい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テキスト ボックス 6"/>
          <p:cNvSpPr/>
          <p:nvPr/>
        </p:nvSpPr>
        <p:spPr>
          <a:xfrm>
            <a:off x="669960" y="56610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図 1" descr=""/>
          <p:cNvPicPr/>
          <p:nvPr/>
        </p:nvPicPr>
        <p:blipFill>
          <a:blip r:embed="rId1"/>
          <a:stretch/>
        </p:blipFill>
        <p:spPr>
          <a:xfrm>
            <a:off x="390600" y="1123920"/>
            <a:ext cx="8362800" cy="4753080"/>
          </a:xfrm>
          <a:prstGeom prst="rect">
            <a:avLst/>
          </a:prstGeom>
          <a:ln w="0">
            <a:noFill/>
          </a:ln>
        </p:spPr>
      </p:pic>
      <p:sp>
        <p:nvSpPr>
          <p:cNvPr id="90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DBDB-6DC3-42DD-B204-46421B284BCE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適したファイル形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2" name="テキスト ボックス 7"/>
          <p:cNvSpPr/>
          <p:nvPr/>
        </p:nvSpPr>
        <p:spPr>
          <a:xfrm>
            <a:off x="468360" y="907920"/>
            <a:ext cx="3382920" cy="180036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L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pen Licens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usabl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F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pen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UR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Uniform Resource Identifie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LD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Linked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テキスト ボックス 6"/>
          <p:cNvSpPr/>
          <p:nvPr/>
        </p:nvSpPr>
        <p:spPr>
          <a:xfrm>
            <a:off x="390600" y="5872320"/>
            <a:ext cx="83628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リーダ育成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C814-22CC-4F8E-8851-A4FD839483DE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情報の種類に適したファイル形式の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6" name="正方形/長方形 4"/>
          <p:cNvSpPr/>
          <p:nvPr/>
        </p:nvSpPr>
        <p:spPr>
          <a:xfrm>
            <a:off x="496800" y="1052640"/>
            <a:ext cx="831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情報の種類によって、適したファイル形式も異な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784080" y="1557360"/>
          <a:ext cx="7713720" cy="2814480"/>
        </p:xfrm>
        <a:graphic>
          <a:graphicData uri="http://schemas.openxmlformats.org/drawingml/2006/table">
            <a:tbl>
              <a:tblPr/>
              <a:tblGrid>
                <a:gridCol w="4176720"/>
                <a:gridCol w="1876680"/>
                <a:gridCol w="166032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情報の種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ファイル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統計情報、施設の一覧など一覧形式となっている情報、予算・決算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表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SV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　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報告書など、文章による情報や、図形、画像等が混在している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文書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DF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　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主に地図と組合せて利用する情報で、線や面などのデータを含むも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理空間情報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p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</a:tbl>
          </a:graphicData>
        </a:graphic>
      </p:graphicFrame>
      <p:sp>
        <p:nvSpPr>
          <p:cNvPr id="908" name="正方形/長方形 7"/>
          <p:cNvSpPr/>
          <p:nvPr/>
        </p:nvSpPr>
        <p:spPr>
          <a:xfrm>
            <a:off x="1073160" y="5157720"/>
            <a:ext cx="7424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オープンデータとして公開する際は、利用者が加工しやすく、コンピュータ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プログラムが処理しやすい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形式」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とす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星 16 27"/>
          <p:cNvSpPr/>
          <p:nvPr/>
        </p:nvSpPr>
        <p:spPr>
          <a:xfrm>
            <a:off x="712800" y="4653000"/>
            <a:ext cx="1224000" cy="647640"/>
          </a:xfrm>
          <a:custGeom>
            <a:avLst/>
            <a:gdLst>
              <a:gd name="textAreaLeft" fmla="*/ 279360 w 1224000"/>
              <a:gd name="textAreaRight" fmla="*/ 944640 w 1224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5a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ＭＳ Ｐゴシック"/>
              </a:rPr>
              <a:t>オススメ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テキスト ボックス 6"/>
          <p:cNvSpPr/>
          <p:nvPr/>
        </p:nvSpPr>
        <p:spPr>
          <a:xfrm>
            <a:off x="669960" y="61596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C882-F4F3-47DB-821A-B28F8C781E28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推奨データセッ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3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正方形/長方形 8"/>
          <p:cNvSpPr/>
          <p:nvPr/>
        </p:nvSpPr>
        <p:spPr>
          <a:xfrm>
            <a:off x="539640" y="907920"/>
            <a:ext cx="835344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rmAutofit fontScale="97000"/>
          </a:bodyPr>
          <a:p>
            <a:pPr marL="277200" indent="-277200">
              <a:lnSpc>
                <a:spcPct val="100000"/>
              </a:lnSpc>
              <a:spcBef>
                <a:spcPts val="601"/>
              </a:spcBef>
              <a:buClr>
                <a:srgbClr val="0e5d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世界最先端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国家創造宣言・官民データ活用推進基本計画における重点分野や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「地方公共団体アンケート」（平成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月実施）における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ニーズの高い分野を中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心に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先進地方公共団体の公開済データ等を参考にしつつ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データセットを選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buClr>
                <a:srgbClr val="0e5d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推奨データセット」は、地方公共団体によるオープンデータの公開とその利活用を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促進するため、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オープンデータに取り組み始める地方公共団体の参考となるよう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公開することが推奨されるデータセット及びフォーマット標準例をとりまとめたもの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826920" y="3213000"/>
          <a:ext cx="3713400" cy="2705040"/>
        </p:xfrm>
        <a:graphic>
          <a:graphicData uri="http://schemas.openxmlformats.org/drawingml/2006/table">
            <a:tbl>
              <a:tblPr/>
              <a:tblGrid>
                <a:gridCol w="3713400"/>
              </a:tblGrid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推奨データセット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基本編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1.AED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設置箇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2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介護サービス事業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医療機関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4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文化財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観光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6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ベント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7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衆無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L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クセスポイント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6" name=""/>
          <p:cNvGraphicFramePr/>
          <p:nvPr/>
        </p:nvGraphicFramePr>
        <p:xfrm>
          <a:off x="4716360" y="3213000"/>
          <a:ext cx="3713400" cy="2705040"/>
        </p:xfrm>
        <a:graphic>
          <a:graphicData uri="http://schemas.openxmlformats.org/drawingml/2006/table">
            <a:tbl>
              <a:tblPr/>
              <a:tblGrid>
                <a:gridCol w="3713400"/>
              </a:tblGrid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推奨データセット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基本編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8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衆トイレ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9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消防水利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指定緊急避難場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共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子育て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ープンデータ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</a:tbl>
          </a:graphicData>
        </a:graphic>
      </p:graphicFrame>
      <p:sp>
        <p:nvSpPr>
          <p:cNvPr id="917" name="正方形/長方形 11"/>
          <p:cNvSpPr/>
          <p:nvPr/>
        </p:nvSpPr>
        <p:spPr>
          <a:xfrm>
            <a:off x="826920" y="5904000"/>
            <a:ext cx="7632720" cy="5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出典：平成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日　内閣官房情報通信技術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総合戦略室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「推奨データセットについて」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B21C-BE52-4397-BF11-8E618580A380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推奨データセット一覧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0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正方形/長方形 12"/>
          <p:cNvSpPr/>
          <p:nvPr/>
        </p:nvSpPr>
        <p:spPr>
          <a:xfrm>
            <a:off x="858960" y="6093000"/>
            <a:ext cx="7445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出典：政府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IO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ポータル「オープンデータ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推奨データセット」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https://cio.go.jp/policy-opendata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テキスト ボックス 14"/>
          <p:cNvSpPr/>
          <p:nvPr/>
        </p:nvSpPr>
        <p:spPr>
          <a:xfrm>
            <a:off x="284040" y="692280"/>
            <a:ext cx="871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作成にあたり準拠すべきルールやフォーマット等は政府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IO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ポータルに公開されて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い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23" name="図 1" descr=""/>
          <p:cNvPicPr/>
          <p:nvPr/>
        </p:nvPicPr>
        <p:blipFill>
          <a:blip r:embed="rId1"/>
          <a:stretch/>
        </p:blipFill>
        <p:spPr>
          <a:xfrm>
            <a:off x="826920" y="1311120"/>
            <a:ext cx="747720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図 1" descr=""/>
          <p:cNvPicPr/>
          <p:nvPr/>
        </p:nvPicPr>
        <p:blipFill>
          <a:blip r:embed="rId1"/>
          <a:stretch/>
        </p:blipFill>
        <p:spPr>
          <a:xfrm>
            <a:off x="343080" y="1989000"/>
            <a:ext cx="8458200" cy="2752920"/>
          </a:xfrm>
          <a:prstGeom prst="rect">
            <a:avLst/>
          </a:prstGeom>
          <a:ln w="0">
            <a:noFill/>
          </a:ln>
        </p:spPr>
      </p:pic>
      <p:sp>
        <p:nvSpPr>
          <p:cNvPr id="925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1CE9-ED73-43DE-B456-EE983F63E233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2060"/>
                </a:solidFill>
                <a:latin typeface="メイリオ"/>
              </a:rPr>
              <a:t>推奨データセット作成にあたり準拠すべきルール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正方形/長方形 7"/>
          <p:cNvSpPr/>
          <p:nvPr/>
        </p:nvSpPr>
        <p:spPr>
          <a:xfrm>
            <a:off x="539640" y="936720"/>
            <a:ext cx="835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推奨データセットごとに、項目を公開する際のデータ形式等がデータ項目定義書に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定められてい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正方形/長方形 8"/>
          <p:cNvSpPr/>
          <p:nvPr/>
        </p:nvSpPr>
        <p:spPr>
          <a:xfrm>
            <a:off x="380880" y="4741920"/>
            <a:ext cx="85838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典：平成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月３日　内閣官房情報通信技術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）総合戦略室「データ項目定義書（ベータ版）」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テキスト ボックス 10"/>
          <p:cNvSpPr/>
          <p:nvPr/>
        </p:nvSpPr>
        <p:spPr>
          <a:xfrm>
            <a:off x="3730680" y="1282680"/>
            <a:ext cx="5089320" cy="671400"/>
          </a:xfrm>
          <a:prstGeom prst="wedgeRoundRectCallout">
            <a:avLst>
              <a:gd name="adj1" fmla="val -82532"/>
              <a:gd name="adj2" fmla="val 80912"/>
              <a:gd name="adj3" fmla="val 16667"/>
            </a:avLst>
          </a:prstGeom>
          <a:solidFill>
            <a:srgbClr val="ffffff"/>
          </a:solidFill>
          <a:ln w="19080">
            <a:solidFill>
              <a:srgbClr val="a8163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区分（必須・任意等）を参考に保有している情報から公開を進めることを推奨す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正方形/長方形 11"/>
          <p:cNvSpPr/>
          <p:nvPr/>
        </p:nvSpPr>
        <p:spPr>
          <a:xfrm>
            <a:off x="395280" y="5059440"/>
            <a:ext cx="8361360" cy="17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凡例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：データセットの核となる必須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〇　　：該当推奨データセットを活用したアプリの基本機能を簡単に実現するために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公開することが望ましい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空白 ：該当推奨データセットを活用したアプリの利便性の高い付加価値サービスを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実現するために公開することが望ましい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正方形/長方形 15"/>
          <p:cNvSpPr/>
          <p:nvPr/>
        </p:nvSpPr>
        <p:spPr>
          <a:xfrm>
            <a:off x="380880" y="1484280"/>
            <a:ext cx="8512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0.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緊急避難場所一覧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4751-09A5-4146-BAA0-2EF7EB4F515A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継続していくための取組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正方形/長方形 28"/>
          <p:cNvSpPr/>
          <p:nvPr/>
        </p:nvSpPr>
        <p:spPr>
          <a:xfrm>
            <a:off x="395280" y="4292640"/>
            <a:ext cx="5329080" cy="43344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オープンデータを継続していくための取り組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7" name="額縁 50"/>
          <p:cNvSpPr/>
          <p:nvPr/>
        </p:nvSpPr>
        <p:spPr>
          <a:xfrm>
            <a:off x="900000" y="5589720"/>
            <a:ext cx="5256360" cy="576000"/>
          </a:xfrm>
          <a:prstGeom prst="bevel">
            <a:avLst>
              <a:gd name="adj" fmla="val 7694"/>
            </a:avLst>
          </a:prstGeom>
          <a:solidFill>
            <a:srgbClr val="f6a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2) </a:t>
            </a:r>
            <a:r>
              <a:rPr b="0" lang="ja-JP" sz="1800" spc="-1" strike="noStrike">
                <a:solidFill>
                  <a:srgbClr val="000000"/>
                </a:solidFill>
                <a:latin typeface="Lucida Sans Unicode"/>
              </a:rPr>
              <a:t>オープンデータを拡充す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額縁 51"/>
          <p:cNvSpPr/>
          <p:nvPr/>
        </p:nvSpPr>
        <p:spPr>
          <a:xfrm>
            <a:off x="900000" y="4869000"/>
            <a:ext cx="5256360" cy="576000"/>
          </a:xfrm>
          <a:prstGeom prst="bevel">
            <a:avLst>
              <a:gd name="adj" fmla="val 7694"/>
            </a:avLst>
          </a:prstGeom>
          <a:solidFill>
            <a:srgbClr val="f6a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1) </a:t>
            </a:r>
            <a:r>
              <a:rPr b="0" lang="ja-JP" sz="1800" spc="-1" strike="noStrike">
                <a:solidFill>
                  <a:srgbClr val="000000"/>
                </a:solidFill>
                <a:latin typeface="Lucida Sans Unicode"/>
              </a:rPr>
              <a:t>公開したオープンデータを更新す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テキスト ボックス 6"/>
          <p:cNvSpPr/>
          <p:nvPr/>
        </p:nvSpPr>
        <p:spPr>
          <a:xfrm>
            <a:off x="669960" y="623736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40" name="図 1" descr=""/>
          <p:cNvPicPr/>
          <p:nvPr/>
        </p:nvPicPr>
        <p:blipFill>
          <a:blip r:embed="rId1"/>
          <a:stretch/>
        </p:blipFill>
        <p:spPr>
          <a:xfrm>
            <a:off x="357120" y="892080"/>
            <a:ext cx="84297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2854-6D7F-4BCF-A50D-4FCECF38BF1C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の更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正方形/長方形 67"/>
          <p:cNvSpPr/>
          <p:nvPr/>
        </p:nvSpPr>
        <p:spPr>
          <a:xfrm>
            <a:off x="284040" y="1484280"/>
            <a:ext cx="2475000" cy="36036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更新方法の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正方形/長方形 68"/>
          <p:cNvSpPr/>
          <p:nvPr/>
        </p:nvSpPr>
        <p:spPr>
          <a:xfrm>
            <a:off x="324000" y="907920"/>
            <a:ext cx="805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データの内容に応じて、更新方法や更新タイミングを決め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324000" y="1989000"/>
          <a:ext cx="8569080" cy="1140120"/>
        </p:xfrm>
        <a:graphic>
          <a:graphicData uri="http://schemas.openxmlformats.org/drawingml/2006/table">
            <a:tbl>
              <a:tblPr/>
              <a:tblGrid>
                <a:gridCol w="5373360"/>
                <a:gridCol w="3195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更新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データの例（推奨データセット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ープンデータの内容を、新しいものに置き換え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1.AED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設置箇所一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新しくオープンデータを追加してい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</a:tbl>
          </a:graphicData>
        </a:graphic>
      </p:graphicFrame>
      <p:sp>
        <p:nvSpPr>
          <p:cNvPr id="947" name="正方形/長方形 70"/>
          <p:cNvSpPr/>
          <p:nvPr/>
        </p:nvSpPr>
        <p:spPr>
          <a:xfrm>
            <a:off x="284040" y="3789360"/>
            <a:ext cx="2475000" cy="36036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更新タイミングの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324000" y="4292640"/>
          <a:ext cx="8569080" cy="1654200"/>
        </p:xfrm>
        <a:graphic>
          <a:graphicData uri="http://schemas.openxmlformats.org/drawingml/2006/table">
            <a:tbl>
              <a:tblPr/>
              <a:tblGrid>
                <a:gridCol w="5373360"/>
                <a:gridCol w="3195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更新タイミ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データの例（推奨データセット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随時変更が発生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⇒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団体内でオープンデータを更新する周期を決め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6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ベント一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元のデータの更新に合わせて、定期的にオープンデータの変更や追加を行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</a:tbl>
          </a:graphicData>
        </a:graphic>
      </p:graphicFrame>
      <p:sp>
        <p:nvSpPr>
          <p:cNvPr id="949" name="テキスト ボックス 6"/>
          <p:cNvSpPr/>
          <p:nvPr/>
        </p:nvSpPr>
        <p:spPr>
          <a:xfrm>
            <a:off x="669960" y="61596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DF52-0B10-43A6-9BCC-BF11865BE5CF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情報（データ）のあり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Rectangle 186"/>
          <p:cNvSpPr/>
          <p:nvPr/>
        </p:nvSpPr>
        <p:spPr>
          <a:xfrm>
            <a:off x="684360" y="2060640"/>
            <a:ext cx="8064360" cy="3125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情報公開条例第２２条（情報公開の総合的な推進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情報公開条例第２７条（情報の提供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自治基本条例第８条（情報共有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Rectangle 186"/>
          <p:cNvSpPr/>
          <p:nvPr/>
        </p:nvSpPr>
        <p:spPr>
          <a:xfrm>
            <a:off x="684360" y="1197000"/>
            <a:ext cx="8064360" cy="863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情報公開・情報提供→情報共有・情報活用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9299-ECC8-4468-A2F3-AD000945BCD2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の循環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468360" y="1098720"/>
          <a:ext cx="8207280" cy="485136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2263680"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協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社会課題を解決するためのサービ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を開発し、実装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1493"/>
                    </a:solidFill>
                  </a:tcPr>
                </a:tc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環境整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活用を前提とした標準化された形式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内容のデータを生成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1493"/>
                    </a:solidFill>
                  </a:tcPr>
                </a:tc>
              </a:tr>
              <a:tr h="2587680"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参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社会課題探索の中で、データの価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を発見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1f7"/>
                    </a:solidFill>
                  </a:tcPr>
                </a:tc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透明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データを権利処理した形で一元的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提供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1f7"/>
                    </a:solidFill>
                  </a:tcPr>
                </a:tc>
              </a:tr>
            </a:tbl>
          </a:graphicData>
        </a:graphic>
      </p:graphicFrame>
      <p:sp>
        <p:nvSpPr>
          <p:cNvPr id="957" name="左カーブ矢印 11"/>
          <p:cNvSpPr/>
          <p:nvPr/>
        </p:nvSpPr>
        <p:spPr>
          <a:xfrm rot="5400000">
            <a:off x="4244040" y="3234240"/>
            <a:ext cx="493560" cy="882720"/>
          </a:xfrm>
          <a:custGeom>
            <a:avLst/>
            <a:gdLst>
              <a:gd name="textAreaLeft" fmla="*/ 65880 w 493560"/>
              <a:gd name="textAreaRight" fmla="*/ 427680 w 493560"/>
              <a:gd name="textAreaTop" fmla="*/ 174240 h 882720"/>
              <a:gd name="textAreaBottom" fmla="*/ 64656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35" stAng="-5400000" swAng="5400000"/>
                <a:lnTo>
                  <a:pt x="21600" y="11556"/>
                </a:lnTo>
                <a:arcTo wR="21600" hR="8535" stAng="0" swAng="3410179"/>
                <a:lnTo>
                  <a:pt x="5400" y="21329"/>
                </a:lnTo>
                <a:lnTo>
                  <a:pt x="0" y="18580"/>
                </a:lnTo>
                <a:lnTo>
                  <a:pt x="5400" y="15288"/>
                </a:lnTo>
                <a:lnTo>
                  <a:pt x="5400" y="16798"/>
                </a:lnTo>
                <a:arcTo wR="21600" hR="8535" stAng="3410179" swAng="-3166330"/>
                <a:lnTo>
                  <a:pt x="21259" y="10045"/>
                </a:lnTo>
                <a:arcTo wR="21600" hR="8535" stAng="-243850" swAng="-5156150"/>
                <a:close/>
              </a:path>
              <a:path fill="darkenLess" w="21600" h="21600">
                <a:moveTo>
                  <a:pt x="0" y="0"/>
                </a:moveTo>
                <a:arcTo wR="21600" hR="8535" stAng="-5400000" swAng="5400000"/>
                <a:lnTo>
                  <a:pt x="21600" y="11556"/>
                </a:lnTo>
                <a:arcTo wR="21600" hR="8535" stAng="0" swAng="-243850"/>
                <a:lnTo>
                  <a:pt x="21259" y="10045"/>
                </a:lnTo>
                <a:arcTo wR="21600" hR="8535" stAng="-243850" swAng="-5156150"/>
                <a:close/>
              </a:path>
            </a:pathLst>
          </a:custGeom>
          <a:solidFill>
            <a:srgbClr val="ff0000"/>
          </a:solidFill>
          <a:ln w="12600">
            <a:solidFill>
              <a:srgbClr val="a81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左カーブ矢印 13"/>
          <p:cNvSpPr/>
          <p:nvPr/>
        </p:nvSpPr>
        <p:spPr>
          <a:xfrm rot="16200000">
            <a:off x="4300200" y="2571120"/>
            <a:ext cx="543240" cy="1044720"/>
          </a:xfrm>
          <a:custGeom>
            <a:avLst/>
            <a:gdLst>
              <a:gd name="textAreaLeft" fmla="*/ 72720 w 543240"/>
              <a:gd name="textAreaRight" fmla="*/ 470520 w 543240"/>
              <a:gd name="textAreaTop" fmla="*/ 210240 h 1044720"/>
              <a:gd name="textAreaBottom" fmla="*/ 76680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95" stAng="-5400000" swAng="5400000"/>
                <a:lnTo>
                  <a:pt x="21600" y="11502"/>
                </a:lnTo>
                <a:arcTo wR="21600" hR="8695" stAng="0" swAng="3439399"/>
                <a:lnTo>
                  <a:pt x="5400" y="21324"/>
                </a:lnTo>
                <a:lnTo>
                  <a:pt x="0" y="18794"/>
                </a:lnTo>
                <a:lnTo>
                  <a:pt x="5400" y="15711"/>
                </a:lnTo>
                <a:lnTo>
                  <a:pt x="5400" y="17114"/>
                </a:lnTo>
                <a:arcTo wR="21600" hR="8695" stAng="3439399" swAng="-3213383"/>
                <a:lnTo>
                  <a:pt x="21317" y="10099"/>
                </a:lnTo>
                <a:arcTo wR="21600" hR="8695" stAng="-226016" swAng="-5173984"/>
                <a:close/>
              </a:path>
              <a:path fill="darkenLess" w="21600" h="21600">
                <a:moveTo>
                  <a:pt x="0" y="0"/>
                </a:moveTo>
                <a:arcTo wR="21600" hR="8695" stAng="-5400000" swAng="5400000"/>
                <a:lnTo>
                  <a:pt x="21600" y="11502"/>
                </a:lnTo>
                <a:arcTo wR="21600" hR="8695" stAng="0" swAng="-226016"/>
                <a:lnTo>
                  <a:pt x="21317" y="10099"/>
                </a:lnTo>
                <a:arcTo wR="21600" hR="8695" stAng="-226016" swAng="-5173984"/>
                <a:close/>
              </a:path>
            </a:pathLst>
          </a:custGeom>
          <a:solidFill>
            <a:srgbClr val="ff0000"/>
          </a:solidFill>
          <a:ln w="12600">
            <a:solidFill>
              <a:srgbClr val="a81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9D4A-8EE6-4BBC-99B3-29ACFC5BCA97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サブタイトル 2"/>
          <p:cNvSpPr/>
          <p:nvPr/>
        </p:nvSpPr>
        <p:spPr>
          <a:xfrm>
            <a:off x="468360" y="3875040"/>
            <a:ext cx="8280360" cy="895320"/>
          </a:xfrm>
          <a:prstGeom prst="rect">
            <a:avLst/>
          </a:prstGeom>
          <a:solidFill>
            <a:srgbClr val="cb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平成２４年１０月１日ホームページリニューアルが契機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市議会と共にトライアル（試行）を開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タイトル 2"/>
          <p:cNvSpPr/>
          <p:nvPr/>
        </p:nvSpPr>
        <p:spPr>
          <a:xfrm>
            <a:off x="46836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始めたきっかけ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サブタイトル 2"/>
          <p:cNvSpPr/>
          <p:nvPr/>
        </p:nvSpPr>
        <p:spPr>
          <a:xfrm>
            <a:off x="468360" y="4738680"/>
            <a:ext cx="8280360" cy="1695600"/>
          </a:xfrm>
          <a:prstGeom prst="rect">
            <a:avLst/>
          </a:prstGeom>
          <a:solidFill>
            <a:srgbClr val="e9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ホームページ等で既に掲載しているデータを対象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公共施設所在地、文化財、投票所所在地、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ED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設置場所、避難場所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駐輪場（自転車駐車場）、ごみの収集曜日、ごみの分別・処分方法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年齢別・男女別人口、町丁字別人口　　等　　２５種類のデー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43" name="図 1" descr=""/>
          <p:cNvPicPr/>
          <p:nvPr/>
        </p:nvPicPr>
        <p:blipFill>
          <a:blip r:embed="rId1"/>
          <a:stretch/>
        </p:blipFill>
        <p:spPr>
          <a:xfrm>
            <a:off x="179280" y="1111320"/>
            <a:ext cx="8820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F2C0-1D57-449C-B91E-D75ED880FFF1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28560" y="836640"/>
            <a:ext cx="78868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原則情報は公開し活用してもらう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645840" y="1832040"/>
            <a:ext cx="788652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流山市個人情報保護条例第２条１項（定義）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　→特定の個人が識別され、又は識別され得るもの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 u="sng">
                <a:solidFill>
                  <a:srgbClr val="ff0000"/>
                </a:solidFill>
                <a:uFillTx/>
                <a:latin typeface="ＭＳ Ｐゴシック"/>
              </a:rPr>
              <a:t>つまり特定の個人が識別されなければ原則情報を公開する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0000"/>
                </a:solidFill>
                <a:latin typeface="ＭＳ Ｐゴシック"/>
              </a:rPr>
              <a:t>公開した情報をどんどん活用してもらう！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2" name="下矢印 3"/>
          <p:cNvSpPr/>
          <p:nvPr/>
        </p:nvSpPr>
        <p:spPr>
          <a:xfrm>
            <a:off x="3755880" y="3652920"/>
            <a:ext cx="960480" cy="639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01538"/>
          </a:solidFill>
          <a:ln w="12600">
            <a:solidFill>
              <a:srgbClr val="a81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FD2C-DB92-40FD-95B8-0F8F99E312A1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45840" y="1616040"/>
            <a:ext cx="788652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Z UDPゴシック"/>
                <a:ea typeface="BIZ UDPゴシック"/>
              </a:rPr>
              <a:t>ご清聴ありがとうございました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5" name="コンテンツ プレースホルダー 2"/>
          <p:cNvSpPr/>
          <p:nvPr/>
        </p:nvSpPr>
        <p:spPr>
          <a:xfrm>
            <a:off x="3051000" y="3141720"/>
            <a:ext cx="5985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流山市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総合政策部　情報政策・改革改善課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担当：佐藤　慎一郎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電話番号：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04-7150-6078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ail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ieikaikaku@city.nagareyama.lg.jp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8E2E-0441-4E51-B895-25EC10E75761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サブタイトル 2"/>
          <p:cNvSpPr/>
          <p:nvPr/>
        </p:nvSpPr>
        <p:spPr>
          <a:xfrm>
            <a:off x="468360" y="4357800"/>
            <a:ext cx="8280360" cy="4251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平成２５年度及び平成２６年度にアプリコンテストを開催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タイトル 2"/>
          <p:cNvSpPr/>
          <p:nvPr/>
        </p:nvSpPr>
        <p:spPr>
          <a:xfrm>
            <a:off x="46836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アプリコンテストの実施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サブタイトル 2"/>
          <p:cNvSpPr/>
          <p:nvPr/>
        </p:nvSpPr>
        <p:spPr>
          <a:xfrm>
            <a:off x="468360" y="4753080"/>
            <a:ext cx="8280360" cy="1989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流山のオープンデータを利用した、楽しい・便利なアプリを募集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アイデア（市役所）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アイデア（市議会）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プログラミング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ホームページ公開中のアプリ　　「ゴミ分別・処分方法検索アプリ」等　５件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48" name="図 1" descr=""/>
          <p:cNvPicPr/>
          <p:nvPr/>
        </p:nvPicPr>
        <p:blipFill>
          <a:blip r:embed="rId1"/>
          <a:stretch/>
        </p:blipFill>
        <p:spPr>
          <a:xfrm>
            <a:off x="1104840" y="858960"/>
            <a:ext cx="69343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02E1-5C7D-4281-A84D-8E3D6E5AC611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活用したサイ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1" name="正方形/長方形 17"/>
          <p:cNvSpPr/>
          <p:nvPr/>
        </p:nvSpPr>
        <p:spPr>
          <a:xfrm>
            <a:off x="971640" y="692280"/>
            <a:ext cx="72723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防災科学技術研究所との共同研究の一環として構築した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地域での各種活動を支援する地域ポータルサイト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正方形/長方形 17"/>
          <p:cNvSpPr/>
          <p:nvPr/>
        </p:nvSpPr>
        <p:spPr>
          <a:xfrm>
            <a:off x="1419120" y="6303960"/>
            <a:ext cx="632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http://ecom-plat.jp/nagareyama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3" name="図 1" descr=""/>
          <p:cNvPicPr/>
          <p:nvPr/>
        </p:nvPicPr>
        <p:blipFill>
          <a:blip r:embed="rId1"/>
          <a:stretch/>
        </p:blipFill>
        <p:spPr>
          <a:xfrm>
            <a:off x="1419120" y="1346040"/>
            <a:ext cx="6305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F33D-BF60-45AB-8012-97568B0ED75D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流山市オープンデータカタログサイ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正方形/長方形 17"/>
          <p:cNvSpPr/>
          <p:nvPr/>
        </p:nvSpPr>
        <p:spPr>
          <a:xfrm>
            <a:off x="971640" y="69228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オープンデータ掲載件数　３５０件（令和元年１１月１日現在）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正方形/長方形 17"/>
          <p:cNvSpPr/>
          <p:nvPr/>
        </p:nvSpPr>
        <p:spPr>
          <a:xfrm>
            <a:off x="1428840" y="6453360"/>
            <a:ext cx="62863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https://www.city.nagareyama.chiba.jp/opendata/index.htm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8" name="図 1" descr=""/>
          <p:cNvPicPr/>
          <p:nvPr/>
        </p:nvPicPr>
        <p:blipFill>
          <a:blip r:embed="rId1"/>
          <a:stretch/>
        </p:blipFill>
        <p:spPr>
          <a:xfrm>
            <a:off x="1428840" y="1125360"/>
            <a:ext cx="6286320" cy="53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9643-4DA4-4A16-9B9E-81420EB8A8D5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向けた課題と目標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Rectangle 186"/>
          <p:cNvSpPr/>
          <p:nvPr/>
        </p:nvSpPr>
        <p:spPr>
          <a:xfrm>
            <a:off x="684360" y="1455840"/>
            <a:ext cx="8064360" cy="1973160"/>
          </a:xfrm>
          <a:prstGeom prst="rect">
            <a:avLst/>
          </a:prstGeom>
          <a:solidFill>
            <a:srgbClr val="ffe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なデータを対象と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に作成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に利用状況を把握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Rectangle 186"/>
          <p:cNvSpPr/>
          <p:nvPr/>
        </p:nvSpPr>
        <p:spPr>
          <a:xfrm>
            <a:off x="826920" y="1197000"/>
            <a:ext cx="1071720" cy="576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課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Rectangle 186"/>
          <p:cNvSpPr/>
          <p:nvPr/>
        </p:nvSpPr>
        <p:spPr>
          <a:xfrm>
            <a:off x="684360" y="4121280"/>
            <a:ext cx="8064360" cy="1539720"/>
          </a:xfrm>
          <a:prstGeom prst="rect">
            <a:avLst/>
          </a:prstGeom>
          <a:solidFill>
            <a:srgbClr val="e9f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127ca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行政だけでなく住民、企業、ＮＰＯ等に使ってもらう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127ca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オープンデータを充実させ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Rectangle 186"/>
          <p:cNvSpPr/>
          <p:nvPr/>
        </p:nvSpPr>
        <p:spPr>
          <a:xfrm>
            <a:off x="826920" y="3860640"/>
            <a:ext cx="1071720" cy="57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目標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8720-B76D-4482-AB09-4E339DDAF013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ガイドラインの作成と職員研修の実施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7" name="Rectangle 186"/>
          <p:cNvSpPr/>
          <p:nvPr/>
        </p:nvSpPr>
        <p:spPr>
          <a:xfrm>
            <a:off x="684360" y="1773360"/>
            <a:ext cx="8064360" cy="1501560"/>
          </a:xfrm>
          <a:prstGeom prst="rect">
            <a:avLst/>
          </a:prstGeom>
          <a:solidFill>
            <a:srgbClr val="e8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必要性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目的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形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Rectangle 186"/>
          <p:cNvSpPr/>
          <p:nvPr/>
        </p:nvSpPr>
        <p:spPr>
          <a:xfrm>
            <a:off x="684360" y="1197000"/>
            <a:ext cx="8064360" cy="5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オープンデータ推進に関するガイドライン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Rectangle 186"/>
          <p:cNvSpPr/>
          <p:nvPr/>
        </p:nvSpPr>
        <p:spPr>
          <a:xfrm>
            <a:off x="684360" y="4194000"/>
            <a:ext cx="8064360" cy="2082960"/>
          </a:xfrm>
          <a:prstGeom prst="rect">
            <a:avLst/>
          </a:prstGeom>
          <a:solidFill>
            <a:srgbClr val="c1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管理職向けにオープンデータの概要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一般職員向けにオープンデータの公開手順（外部講師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利活用の重要性（市長講話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利活用講習（総務省講師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Rectangle 186"/>
          <p:cNvSpPr/>
          <p:nvPr/>
        </p:nvSpPr>
        <p:spPr>
          <a:xfrm>
            <a:off x="684360" y="3645000"/>
            <a:ext cx="8064360" cy="576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職員研修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37EA-8AC6-4C09-B00D-4098F791828B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データの掘り起こし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3" name="テキスト ボックス 6"/>
          <p:cNvSpPr/>
          <p:nvPr/>
        </p:nvSpPr>
        <p:spPr>
          <a:xfrm>
            <a:off x="250920" y="126828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各所管課で保有しているデータを掘り起こす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正方形/長方形 20"/>
          <p:cNvSpPr/>
          <p:nvPr/>
        </p:nvSpPr>
        <p:spPr>
          <a:xfrm>
            <a:off x="324000" y="2368440"/>
            <a:ext cx="44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の掘り起こしイメー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08000" y="2728800"/>
          <a:ext cx="8856720" cy="3224160"/>
        </p:xfrm>
        <a:graphic>
          <a:graphicData uri="http://schemas.openxmlformats.org/drawingml/2006/table">
            <a:tbl>
              <a:tblPr/>
              <a:tblGrid>
                <a:gridCol w="1655640"/>
                <a:gridCol w="1728720"/>
                <a:gridCol w="1008360"/>
                <a:gridCol w="1079280"/>
                <a:gridCol w="839880"/>
                <a:gridCol w="888840"/>
                <a:gridCol w="792360"/>
                <a:gridCol w="863640"/>
              </a:tblGrid>
              <a:tr h="83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情報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管理担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部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データ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種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デー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分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頻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他者権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ニー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分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○○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予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財政調整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予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CS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△△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スポッ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商工振興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施設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P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あ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47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イベント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秘書広報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報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html,jp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あ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●●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設置場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防災危機管理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施設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紙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▲▲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統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市民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統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x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四半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2512-C12E-4912-B3B4-35D393737E19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データ掘り起こしの着目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Rectangle 186"/>
          <p:cNvSpPr/>
          <p:nvPr/>
        </p:nvSpPr>
        <p:spPr>
          <a:xfrm>
            <a:off x="684360" y="836640"/>
            <a:ext cx="8064360" cy="4492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国や県へ報告したデータ　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エクセルを利用している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決算審査時に作成した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情報システムから抽出した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調査やアンケートの結果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届出件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グラフ化した元のデータ　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変動する数字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参加者人数　　　　　　　　　　　　　　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Rectangle 186"/>
          <p:cNvSpPr/>
          <p:nvPr/>
        </p:nvSpPr>
        <p:spPr>
          <a:xfrm>
            <a:off x="684360" y="5516640"/>
            <a:ext cx="8064360" cy="576360"/>
          </a:xfrm>
          <a:prstGeom prst="rect">
            <a:avLst/>
          </a:prstGeom>
          <a:solidFill>
            <a:srgbClr val="ffe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庁外からのオープンデータダウンロード実績集計結果も活用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8T02:47:22Z</dcterms:created>
  <dc:creator/>
  <dc:description/>
  <cp:keywords/>
  <dc:language>en-US</dc:language>
  <cp:lastModifiedBy/>
  <dcterms:modified xsi:type="dcterms:W3CDTF">2020-01-08T02:47:38Z</dcterms:modified>
  <cp:revision>1</cp:revision>
  <dc:subject/>
  <dc:title/>
</cp:coreProperties>
</file>